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13.wmf" ContentType="image/x-wmf"/>
  <Override PartName="/ppt/media/image12.jpeg" ContentType="image/jpeg"/>
  <Override PartName="/ppt/media/image8.wmf" ContentType="image/x-wmf"/>
  <Override PartName="/ppt/media/image3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184F-6854-4F72-9A17-0AECB07B3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082C-DD90-4B38-AF41-BB442A68C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72A9-2071-453C-8534-87B7C8264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D935-75F1-4413-8658-3581BD22B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0E3F-7023-4AD5-A70B-D496F545C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9756-66FD-4865-8B39-4C253624ED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AC8E-50E4-47BA-8623-6BCE60D38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EBBB-8DDF-44DF-9A4B-8C64C2B0E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B044-921E-4891-9D5A-FADB98951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966D-76F7-43FF-8943-6EB36F333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2A70-3D92-4AAB-B684-F3B78850A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5A8C-4490-4B69-A7AA-56BA2102B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4A7C-269F-46F5-A194-66C133FDAB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4214880" y="2357280"/>
            <a:ext cx="43578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Verdana"/>
                <a:ea typeface="Verdana"/>
              </a:rPr>
              <a:t>DCP 206 – Removal of charge 1 from EDC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040"/>
                </a:solidFill>
                <a:latin typeface="Verdana"/>
                <a:ea typeface="Verdana"/>
              </a:rPr>
              <a:t>Impact analysis – aggregate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5072040" y="3656160"/>
            <a:ext cx="3500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404040"/>
                </a:solidFill>
                <a:latin typeface="Verdana"/>
                <a:ea typeface="Verdana"/>
              </a:rPr>
              <a:t>Keith Burwel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04040"/>
                </a:solidFill>
                <a:latin typeface="Verdana"/>
                <a:ea typeface="Verdana"/>
              </a:rPr>
              <a:t>17/07/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B518-63C3-4977-A6E0-7973E9A20C44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440" y="1230480"/>
            <a:ext cx="89632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60E1-5710-4942-B6E2-4775C03557A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9080" y="1731960"/>
            <a:ext cx="9036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3E4A-471F-4C94-BA58-67323B2890E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989000"/>
          <a:ext cx="8424720" cy="3888000"/>
        </p:xfrm>
        <a:graphic>
          <a:graphicData uri="http://schemas.openxmlformats.org/drawingml/2006/table">
            <a:tbl>
              <a:tblPr/>
              <a:tblGrid>
                <a:gridCol w="5394240"/>
                <a:gridCol w="1557360"/>
                <a:gridCol w="1473120"/>
              </a:tblGrid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ustomers experiencing increase / decrease in charge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percentile change in charges (absolu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£2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£1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change in charges for top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39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£56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percentile change in charge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% change in charges for top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or decrease &gt;£5,000 and &gt;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or decrease &gt;£10,000 and &gt;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4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 of decrease in charges enjoyed by 1.5% of all customers (34% enjoy remaining 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 of decrease in charges enjoyed by 4% of all customers (31.5% enjoy remaining 2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 of increase in charges borne by 4% of all customers (60.5% bear remaining 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 of increase in charges borne by  10% of all customers (54.5% bear remaining 2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171B-6FA1-492E-82C1-C51F2C4EBD66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123920" y="1241280"/>
            <a:ext cx="67215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7E6A-590B-43FB-A293-23A478179DB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241280" y="1268280"/>
            <a:ext cx="6705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7019-463B-4BA9-A9A4-02A51CBE7DBC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737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515D-A48B-4D5F-916B-C37EDCF5692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09440" y="1268280"/>
            <a:ext cx="8925120" cy="227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09440" y="3860640"/>
            <a:ext cx="89251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4074-6F80-4D7C-B7FB-F4BD09BDECF4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231920" y="1197000"/>
            <a:ext cx="67136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ABDE-E660-42D2-A918-F0D9753D3DD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230480" y="1197000"/>
            <a:ext cx="66830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2457-9551-43D7-8D22-6DF31ACDF66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9440" y="2292480"/>
            <a:ext cx="89251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9620-9A59-4D2D-90D3-6426BBD99BA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51000" y="1197000"/>
            <a:ext cx="66834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0T15:42:57Z</dcterms:created>
  <dc:creator>Keith Burwell</dc:creator>
  <dc:description/>
  <dc:language>en-US</dc:language>
  <cp:lastModifiedBy>Keith Burwell</cp:lastModifiedBy>
  <dcterms:modified xsi:type="dcterms:W3CDTF">2014-07-15T16:39:5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ContentTypeId">
    <vt:lpwstr>0x010100FAFD54A5D6473B468DE06B48FEFEE6D90031207554042CCA4A8347436AD5EAD2D7</vt:lpwstr>
  </property>
  <property fmtid="{D5CDD505-2E9C-101B-9397-08002B2CF9AE}" pid="4" name="Descriptor">
    <vt:lpwstr/>
  </property>
  <property fmtid="{D5CDD505-2E9C-101B-9397-08002B2CF9AE}" pid="5" name="Meeting Date">
    <vt:lpwstr>2014-07-01T10:05:44Z</vt:lpwstr>
  </property>
  <property fmtid="{D5CDD505-2E9C-101B-9397-08002B2CF9AE}" pid="6" name="Organisation">
    <vt:lpwstr>Choose an Organisation</vt:lpwstr>
  </property>
  <property fmtid="{D5CDD505-2E9C-101B-9397-08002B2CF9AE}" pid="7" name="Publication Date:">
    <vt:lpwstr>2014-07-01T10:05:44Z</vt:lpwstr>
  </property>
  <property fmtid="{D5CDD505-2E9C-101B-9397-08002B2CF9AE}" pid="8" name="Recipient">
    <vt:lpwstr/>
  </property>
  <property fmtid="{D5CDD505-2E9C-101B-9397-08002B2CF9AE}" pid="9" name="_Status">
    <vt:lpwstr>Draft</vt:lpwstr>
  </property>
</Properties>
</file>